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1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0A5-1AF0-49D8-AE1B-16A9905B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69C-D942-4159-9C84-2A179BB7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FA2-4DB5-4A00-BFB9-445464ED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1F9-7E69-4361-A8EC-C910DF7B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31B-F81C-4EA4-ABA1-803E460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378-4E63-4359-B13B-E7639726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AD6-D370-4A8C-AEAC-0C09F9A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47C-75DD-4453-BA1E-8EA09BE1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6B7-970F-4523-94E3-47C5F07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747-52FA-40F9-AFE0-D703EE7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FD5-39EE-48CC-A9E1-77BD682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09D-3499-457D-9800-21BB6533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5DC-6DA2-4A02-8E2C-9BD53A7D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6858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3.xml"/><Relationship Id="rId3" Type="http://schemas.openxmlformats.org/officeDocument/2006/relationships/image" Target="../media/image9.wmf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image" Target="../media/image12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fosoleil.com/10commandements.php" TargetMode="External"/><Relationship Id="rId3" Type="http://schemas.openxmlformats.org/officeDocument/2006/relationships/hyperlink" Target="http://www.educnet.education.fr/obter/appliped/ozone/theme/ozone7.htm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380880"/>
            <a:ext cx="7696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bronzag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879640"/>
            <a:ext cx="56390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Jenny</a:t>
            </a:r>
            <a:r>
              <a:rPr b="0" lang="fr-CA" sz="32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Drouin et Audrey Messi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9800" y="3991680"/>
            <a:ext cx="65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olyvalente Saint-François, Beauceville, Québec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1240" y="4982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76720" y="6095880"/>
            <a:ext cx="2669760" cy="457200"/>
            <a:chOff x="3276720" y="6095880"/>
            <a:chExt cx="2669760" cy="457200"/>
          </a:xfrm>
        </p:grpSpPr>
        <p:sp>
          <p:nvSpPr>
            <p:cNvPr id="47" name=""/>
            <p:cNvSpPr/>
            <p:nvPr/>
          </p:nvSpPr>
          <p:spPr>
            <a:xfrm>
              <a:off x="3276720" y="60958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9120" y="617076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lupart des cancers de la peau sont causés par de nombreuses années d’exposition au soleil. Le bronzage indique que la peau a été attaquée par les rayon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U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 Ce n’est donc pas un signe de bonne sant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467480" y="457200"/>
            <a:ext cx="1422360" cy="13939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228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692280"/>
            <a:ext cx="67071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 bronzage un sport dangereu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9000"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coup de soleil est un rougissement de la peau. La plus grande partie de la douleur se retrouve 12 à 24 heures après l’exposition. Pendant toute l’année les dangereux rayons UV sont présents même s’il ne fait pas cha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2860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476280"/>
            <a:ext cx="770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utch!!! Ça fait mal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 personnes qui ont les yeux pâles, les yeux bleus, les cheveux roux ou blonds et des tâches de rousseurs  bronzent très mal : leur peau brûle facilement et a tendance à avoir des tâches brunât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11480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58000" y="533520"/>
            <a:ext cx="109044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228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68360" y="620640"/>
            <a:ext cx="468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reeting Monotone"/>
              </a:rPr>
              <a:t>Saviez-vous que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reeting Monotone"/>
              <a:ea typeface="Greeting Monotone"/>
            </a:endParaRPr>
          </a:p>
        </p:txBody>
      </p:sp>
    </p:spTree>
  </p:cSld>
  <p:transition advTm="11000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est très important de porter des lunettes solaires car nos yeux peuvent être endommagés par le soleil. À long terme, de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atarac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peuvent se former, si on ne les traite pas chirurgicalement le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ataract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ènent à la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éc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549360"/>
            <a:ext cx="648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Copperplate Gothic Bold"/>
              </a:rPr>
              <a:t>Et nos yeux alor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lin ang="5400000"/>
              </a:gradFill>
              <a:latin typeface="Copperplate Gothic Bold"/>
              <a:ea typeface="Copperplate Gothic Bold"/>
            </a:endParaRPr>
          </a:p>
        </p:txBody>
      </p:sp>
    </p:spTree>
  </p:cSld>
  <p:transition advTm="15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êter la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faut arrêter la pollution par les CFC parce que celle-ci fait réduire la couche d’ozone. Le soleil peut alors augmenter sa force et provoquer par la suite de plus grande cause de cancer de la p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228600" y="57913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6234"/>
                </a:moveTo>
                <a:lnTo>
                  <a:pt x="13376" y="8845"/>
                </a:ln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lnTo>
                  <a:pt x="17763" y="13197"/>
                </a:lnTo>
                <a:lnTo>
                  <a:pt x="16109" y="13197"/>
                </a:lnTo>
                <a:lnTo>
                  <a:pt x="16109" y="20386"/>
                </a:lnTo>
                <a:lnTo>
                  <a:pt x="5491" y="20386"/>
                </a:lnTo>
                <a:lnTo>
                  <a:pt x="5491" y="13197"/>
                </a:lnTo>
                <a:lnTo>
                  <a:pt x="3837" y="13197"/>
                </a:lnTo>
                <a:close/>
              </a:path>
              <a:path fill="darkenLess" w="21600" h="26394">
                <a:moveTo>
                  <a:pt x="13376" y="8845"/>
                </a:move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close/>
              </a:path>
              <a:path fill="darkenLess" w="21600" h="26394">
                <a:moveTo>
                  <a:pt x="9877" y="16696"/>
                </a:moveTo>
                <a:lnTo>
                  <a:pt x="11723" y="16696"/>
                </a:lnTo>
                <a:lnTo>
                  <a:pt x="11723" y="20386"/>
                </a:lnTo>
                <a:lnTo>
                  <a:pt x="16109" y="20386"/>
                </a:lnTo>
                <a:lnTo>
                  <a:pt x="16109" y="13197"/>
                </a:lnTo>
                <a:lnTo>
                  <a:pt x="5491" y="13197"/>
                </a:lnTo>
                <a:lnTo>
                  <a:pt x="5491" y="20386"/>
                </a:lnTo>
                <a:lnTo>
                  <a:pt x="9877" y="2038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195640" y="836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olutions à ces problèm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3000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s gaz (CFC) utilisés dans les appareils de réfrigération et de climatisation sont les produits les plus susceptibles de réduire la couche d’oz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2480" y="60948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ettenschweiler"/>
              </a:rPr>
              <a:t>La couche d'ozon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ettenschweiler"/>
              <a:ea typeface="Haettenschweiler"/>
            </a:endParaRPr>
          </a:p>
        </p:txBody>
      </p:sp>
    </p:spTree>
  </p:cSld>
  <p:transition advTm="9000"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75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75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251460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numéro qui est inscrit sur la crème solaire indique la force de protection contre les rayons du solei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CFC sont les produits qui aide à la destruction de la couche d’oz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5640" y="62064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Saviez-vous que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vous faut attendre au minimum 20 minutes après avoir mis la crème solaire pour vous exposer au solei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120" y="261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3809880" cy="352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620640"/>
            <a:ext cx="770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sabella"/>
              </a:rPr>
              <a:t>Après usag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sabella"/>
              <a:ea typeface="Isabella"/>
            </a:endParaRPr>
          </a:p>
        </p:txBody>
      </p:sp>
    </p:spTree>
  </p:cSld>
  <p:transition advTm="9000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rème sol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erait préfér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’utiliser de la crème solaire dont l’indice de protection est de 15 minimum quand il fait soleil même l’h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261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160720"/>
            <a:ext cx="3809880" cy="3755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57150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20640"/>
            <a:ext cx="770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merican Classic"/>
              </a:rPr>
              <a:t>Acha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merican Classic"/>
              <a:ea typeface="American Classic"/>
            </a:endParaRPr>
          </a:p>
        </p:txBody>
      </p:sp>
    </p:spTree>
  </p:cSld>
  <p:transition advTm="10000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question que plusieurs gens se posent est: Peut-on réparer l’ozone? Non, il n’existe encore aucune solution pour résoudre ce problème. Le seul moyen c’est de la laisser vivre à son état natur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609480"/>
            <a:ext cx="7619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éparer l'ozon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AG00038_" descr=""/>
          <p:cNvPicPr/>
          <p:nvPr/>
        </p:nvPicPr>
        <p:blipFill>
          <a:blip r:embed="rId2"/>
          <a:stretch/>
        </p:blipFill>
        <p:spPr>
          <a:xfrm>
            <a:off x="4648320" y="2943360"/>
            <a:ext cx="3809880" cy="2190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571500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6234"/>
                </a:moveTo>
                <a:lnTo>
                  <a:pt x="13376" y="8845"/>
                </a:ln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lnTo>
                  <a:pt x="17763" y="13197"/>
                </a:lnTo>
                <a:lnTo>
                  <a:pt x="16109" y="13197"/>
                </a:lnTo>
                <a:lnTo>
                  <a:pt x="16109" y="20386"/>
                </a:lnTo>
                <a:lnTo>
                  <a:pt x="5491" y="20386"/>
                </a:lnTo>
                <a:lnTo>
                  <a:pt x="5491" y="13197"/>
                </a:lnTo>
                <a:lnTo>
                  <a:pt x="3837" y="13197"/>
                </a:lnTo>
                <a:close/>
              </a:path>
              <a:path fill="darkenLess" w="21600" h="26394">
                <a:moveTo>
                  <a:pt x="13376" y="8845"/>
                </a:moveTo>
                <a:lnTo>
                  <a:pt x="13376" y="7104"/>
                </a:lnTo>
                <a:lnTo>
                  <a:pt x="15152" y="7104"/>
                </a:lnTo>
                <a:lnTo>
                  <a:pt x="15152" y="10621"/>
                </a:lnTo>
                <a:close/>
              </a:path>
              <a:path fill="darkenLess" w="21600" h="26394">
                <a:moveTo>
                  <a:pt x="9877" y="16696"/>
                </a:moveTo>
                <a:lnTo>
                  <a:pt x="11723" y="16696"/>
                </a:lnTo>
                <a:lnTo>
                  <a:pt x="11723" y="20386"/>
                </a:lnTo>
                <a:lnTo>
                  <a:pt x="16109" y="20386"/>
                </a:lnTo>
                <a:lnTo>
                  <a:pt x="16109" y="13197"/>
                </a:lnTo>
                <a:lnTo>
                  <a:pt x="5491" y="13197"/>
                </a:lnTo>
                <a:lnTo>
                  <a:pt x="5491" y="20386"/>
                </a:lnTo>
                <a:lnTo>
                  <a:pt x="9877" y="2038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Goudy Stout"/>
              </a:rPr>
              <a:t>Le bronz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Blackadder ITC"/>
              </a:rPr>
              <a:t>Par Jenny Beauchemin, Vanessa Drou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Blackadder ITC"/>
              </a:rPr>
              <a:t>Et Audrey Mes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44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5800" y="2286000"/>
            <a:ext cx="7696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EwieD"/>
              </a:rPr>
              <a:t>Le solei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EwieD"/>
              <a:ea typeface="Ewie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552680" cy="175248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Maintenant vous savez tous les risques, avantages et autres sujets concernant l’activité du solei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le bronz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’est à vous maintenant d’y réfléchir lorsque vous faites des activités à l’extérieu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533520"/>
            <a:ext cx="7696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ba0000"/>
                    </a:gs>
                  </a:gsLst>
                  <a:lin ang="5400000"/>
                </a:gradFill>
                <a:latin typeface="Elephant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ba0000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  <p:pic>
        <p:nvPicPr>
          <p:cNvPr id="123" name="AG00017_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65572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AG00274_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895480" cy="15444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ARINI, Jean-Pierre. (Page consultée le 20 avril 2002)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eils illustrés:les 10 command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nfosoleil.com/10commandements.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SANET, Jean. (Page consultée le 23 avril 2002)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 destruction de l'ozone stratosphér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educnet.education.fr/obter/appliped/ozone/theme/ozone7.h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066680"/>
            <a:ext cx="77724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ba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Média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ba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advTm="15000"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INCONNU.  (Page consultée le 23 avril 2002).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Latin Midi File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salsa.media-site.com/FichierHTML1/MidiFiles.html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GLADSTONE, Valérie. « Été:sauvez votre peau »,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Sélection,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Juin 2000, p.131-136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HARE, Tony et Louis MORZAC.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 La couche d’ozone,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ondres, Édition Gamma, 1991, 32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11280" y="1125360"/>
            <a:ext cx="42498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ba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Su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ba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Eras Demi ITC"/>
              </a:rPr>
              <a:t>UV veut dire rayon ultravio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Eras Demi ITC"/>
              </a:rPr>
              <a:t>La cataracte est une maladie dans les y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Eras Demi ITC"/>
              </a:rPr>
              <a:t>Cécité veut dire devenir aveu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Eras Demi ITC"/>
              </a:rPr>
              <a:t>Précoce veut dire qui survient plus tô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Eras Demi ITC"/>
              </a:rPr>
              <a:t>CFC signifie Chloro Fluoro Car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533520"/>
            <a:ext cx="7162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83a7db"/>
                    </a:gs>
                  </a:gsLst>
                  <a:lin ang="5400000"/>
                </a:gradFill>
                <a:latin typeface="Curlz MT"/>
              </a:rPr>
              <a:t>Glossa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83a7db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572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s a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ccff"/>
                </a:solidFill>
                <a:latin typeface="Times New Roman"/>
              </a:rPr>
              <a:t>Le bronzage et ses méf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oleil mode d’empl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Pour en savoir un peu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Le bronzage un sport danger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Out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!!!Ça fait mal</a:t>
            </a:r>
            <a:r>
              <a:rPr b="0" lang="fr-CA" sz="2400" spc="-1" strike="noStrike">
                <a:solidFill>
                  <a:srgbClr val="ccccff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Saviez-vou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ccff"/>
                </a:solidFill>
                <a:latin typeface="Times New Roman"/>
              </a:rPr>
              <a:t>Et nos yeux 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Des solutions à ces problè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La couche d’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360" y="62064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ble des matièr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5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Saviez-vou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Après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A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Réparer l’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Média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Glo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9" action="ppaction://hlinksldjump"/>
          </p:cNvPr>
          <p:cNvSpPr/>
          <p:nvPr/>
        </p:nvSpPr>
        <p:spPr>
          <a:xfrm>
            <a:off x="380880" y="5715000"/>
            <a:ext cx="838440" cy="99072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90720"/>
              <a:gd name="textAreaBottom" fmla="*/ 936360 h 990720"/>
            </a:gdLst>
            <a:ahLst/>
            <a:rect l="textAreaLeft" t="textAreaTop" r="textAreaRight" b="textAreaBottom"/>
            <a:pathLst>
              <a:path w="21600" h="25521">
                <a:moveTo>
                  <a:pt x="0" y="0"/>
                </a:moveTo>
                <a:lnTo>
                  <a:pt x="21600" y="0"/>
                </a:lnTo>
                <a:lnTo>
                  <a:pt x="21600" y="25521"/>
                </a:lnTo>
                <a:lnTo>
                  <a:pt x="0" y="25521"/>
                </a:lnTo>
                <a:close/>
              </a:path>
              <a:path fill="lightenLess" w="21600" h="255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21">
                <a:moveTo>
                  <a:pt x="21600" y="0"/>
                </a:moveTo>
                <a:lnTo>
                  <a:pt x="21600" y="25521"/>
                </a:lnTo>
                <a:lnTo>
                  <a:pt x="20200" y="24121"/>
                </a:lnTo>
                <a:lnTo>
                  <a:pt x="20200" y="1400"/>
                </a:lnTo>
                <a:close/>
              </a:path>
              <a:path fill="darkenLess" w="21600" h="25521">
                <a:moveTo>
                  <a:pt x="21600" y="25521"/>
                </a:moveTo>
                <a:lnTo>
                  <a:pt x="0" y="25521"/>
                </a:lnTo>
                <a:lnTo>
                  <a:pt x="1400" y="24121"/>
                </a:lnTo>
                <a:lnTo>
                  <a:pt x="20200" y="24121"/>
                </a:lnTo>
                <a:close/>
              </a:path>
              <a:path fill="lighten" w="21600" h="25521">
                <a:moveTo>
                  <a:pt x="0" y="255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21"/>
                </a:lnTo>
                <a:close/>
              </a:path>
              <a:path fill="darken" w="21600" h="25521">
                <a:moveTo>
                  <a:pt x="10800" y="5798"/>
                </a:moveTo>
                <a:lnTo>
                  <a:pt x="13376" y="8409"/>
                </a:lnTo>
                <a:lnTo>
                  <a:pt x="13376" y="6668"/>
                </a:lnTo>
                <a:lnTo>
                  <a:pt x="15152" y="6668"/>
                </a:lnTo>
                <a:lnTo>
                  <a:pt x="15152" y="10184"/>
                </a:lnTo>
                <a:lnTo>
                  <a:pt x="17763" y="12761"/>
                </a:lnTo>
                <a:lnTo>
                  <a:pt x="16109" y="12761"/>
                </a:lnTo>
                <a:lnTo>
                  <a:pt x="16109" y="19950"/>
                </a:lnTo>
                <a:lnTo>
                  <a:pt x="5491" y="19950"/>
                </a:lnTo>
                <a:lnTo>
                  <a:pt x="5491" y="12761"/>
                </a:lnTo>
                <a:lnTo>
                  <a:pt x="3837" y="12761"/>
                </a:lnTo>
                <a:close/>
              </a:path>
              <a:path fill="darkenLess" w="21600" h="25521">
                <a:moveTo>
                  <a:pt x="13376" y="8409"/>
                </a:moveTo>
                <a:lnTo>
                  <a:pt x="13376" y="6668"/>
                </a:lnTo>
                <a:lnTo>
                  <a:pt x="15152" y="6668"/>
                </a:lnTo>
                <a:lnTo>
                  <a:pt x="15152" y="10184"/>
                </a:lnTo>
                <a:close/>
              </a:path>
              <a:path fill="darkenLess" w="21600" h="25521">
                <a:moveTo>
                  <a:pt x="9877" y="16260"/>
                </a:moveTo>
                <a:lnTo>
                  <a:pt x="11723" y="16260"/>
                </a:lnTo>
                <a:lnTo>
                  <a:pt x="11723" y="19950"/>
                </a:lnTo>
                <a:lnTo>
                  <a:pt x="16109" y="19950"/>
                </a:lnTo>
                <a:lnTo>
                  <a:pt x="16109" y="12761"/>
                </a:lnTo>
                <a:lnTo>
                  <a:pt x="5491" y="12761"/>
                </a:lnTo>
                <a:lnTo>
                  <a:pt x="5491" y="19950"/>
                </a:lnTo>
                <a:lnTo>
                  <a:pt x="9877" y="1995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620640"/>
            <a:ext cx="777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ite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oleil est une source de chaleur bien connu pour le bronzage. Passer des journées sous cette étoile paraît extraordinaire, mais l’est-il vra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Cliquez pour télécharger"/>
          <p:cNvPicPr/>
          <p:nvPr/>
        </p:nvPicPr>
        <p:blipFill>
          <a:blip r:embed="rId2"/>
          <a:stretch/>
        </p:blipFill>
        <p:spPr>
          <a:xfrm>
            <a:off x="4952880" y="2057400"/>
            <a:ext cx="3286080" cy="40384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304920" y="57913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7885"/>
                </a:moveTo>
                <a:lnTo>
                  <a:pt x="13376" y="10497"/>
                </a:ln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lnTo>
                  <a:pt x="17763" y="14848"/>
                </a:lnTo>
                <a:lnTo>
                  <a:pt x="16109" y="14848"/>
                </a:lnTo>
                <a:lnTo>
                  <a:pt x="16109" y="22038"/>
                </a:lnTo>
                <a:lnTo>
                  <a:pt x="5491" y="22038"/>
                </a:lnTo>
                <a:lnTo>
                  <a:pt x="5491" y="14848"/>
                </a:lnTo>
                <a:lnTo>
                  <a:pt x="3837" y="14848"/>
                </a:lnTo>
                <a:close/>
              </a:path>
              <a:path fill="darkenLess" w="21600" h="29697">
                <a:moveTo>
                  <a:pt x="13376" y="10497"/>
                </a:moveTo>
                <a:lnTo>
                  <a:pt x="13376" y="8756"/>
                </a:lnTo>
                <a:lnTo>
                  <a:pt x="15152" y="8756"/>
                </a:lnTo>
                <a:lnTo>
                  <a:pt x="15152" y="12272"/>
                </a:lnTo>
                <a:close/>
              </a:path>
              <a:path fill="darkenLess" w="21600" h="29697">
                <a:moveTo>
                  <a:pt x="9877" y="18347"/>
                </a:moveTo>
                <a:lnTo>
                  <a:pt x="11723" y="18347"/>
                </a:lnTo>
                <a:lnTo>
                  <a:pt x="11723" y="22038"/>
                </a:lnTo>
                <a:lnTo>
                  <a:pt x="16109" y="22038"/>
                </a:lnTo>
                <a:lnTo>
                  <a:pt x="16109" y="14848"/>
                </a:lnTo>
                <a:lnTo>
                  <a:pt x="5491" y="14848"/>
                </a:lnTo>
                <a:lnTo>
                  <a:pt x="5491" y="22038"/>
                </a:lnTo>
                <a:lnTo>
                  <a:pt x="9877" y="2203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360" y="620640"/>
            <a:ext cx="777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ceAgeD"/>
              </a:rPr>
              <a:t>Introduc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ceAgeD"/>
              <a:ea typeface="IceAgeD"/>
            </a:endParaRPr>
          </a:p>
        </p:txBody>
      </p:sp>
    </p:spTree>
  </p:cSld>
  <p:transition advTm="14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0000"/>
                </a:solidFill>
                <a:latin typeface="Times New Roman"/>
              </a:rPr>
              <a:t>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Le bronzage peut vous procurer une magnifique peau bronzée d’une couleur que tout le monde voudrait garder à l’année longue. Il vous fait ressentir de même une sensation de chaleur d’une intensité modérée, mais l’est-elle pour longtemp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095751" descr=""/>
          <p:cNvPicPr/>
          <p:nvPr/>
        </p:nvPicPr>
        <p:blipFill>
          <a:blip r:embed="rId2"/>
          <a:stretch/>
        </p:blipFill>
        <p:spPr>
          <a:xfrm>
            <a:off x="457200" y="601560"/>
            <a:ext cx="3352680" cy="194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648320" y="990720"/>
            <a:ext cx="3429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urlz MT"/>
              </a:rPr>
              <a:t>Avantag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bronzage artificiel n’est pas plus sécuritaire que le bronzage au sole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879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ême si les salons de bronzage utilisent principalement les rayons UVA, ces derniers peuvent être présents en quantité suffisante pour brûler la pea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304920" y="57150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0800" y="4820"/>
                </a:moveTo>
                <a:lnTo>
                  <a:pt x="13376" y="7431"/>
                </a:ln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lnTo>
                  <a:pt x="17763" y="11783"/>
                </a:lnTo>
                <a:lnTo>
                  <a:pt x="16109" y="11783"/>
                </a:lnTo>
                <a:lnTo>
                  <a:pt x="16109" y="18972"/>
                </a:lnTo>
                <a:lnTo>
                  <a:pt x="5491" y="18972"/>
                </a:lnTo>
                <a:lnTo>
                  <a:pt x="5491" y="11783"/>
                </a:lnTo>
                <a:lnTo>
                  <a:pt x="3837" y="11783"/>
                </a:lnTo>
                <a:close/>
              </a:path>
              <a:path fill="darkenLess" w="21600" h="23566">
                <a:moveTo>
                  <a:pt x="13376" y="7431"/>
                </a:moveTo>
                <a:lnTo>
                  <a:pt x="13376" y="5690"/>
                </a:lnTo>
                <a:lnTo>
                  <a:pt x="15152" y="5690"/>
                </a:lnTo>
                <a:lnTo>
                  <a:pt x="15152" y="9207"/>
                </a:lnTo>
                <a:close/>
              </a:path>
              <a:path fill="darkenLess" w="21600" h="23566">
                <a:moveTo>
                  <a:pt x="9877" y="15282"/>
                </a:moveTo>
                <a:lnTo>
                  <a:pt x="11723" y="15282"/>
                </a:lnTo>
                <a:lnTo>
                  <a:pt x="11723" y="18972"/>
                </a:lnTo>
                <a:lnTo>
                  <a:pt x="16109" y="18972"/>
                </a:lnTo>
                <a:lnTo>
                  <a:pt x="16109" y="11783"/>
                </a:lnTo>
                <a:lnTo>
                  <a:pt x="5491" y="11783"/>
                </a:lnTo>
                <a:lnTo>
                  <a:pt x="5491" y="18972"/>
                </a:lnTo>
                <a:lnTo>
                  <a:pt x="9877" y="189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620640"/>
            <a:ext cx="770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 bronzage et ses méfait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4000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011240" cy="198108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228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35280" y="620640"/>
            <a:ext cx="669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oleil mode d'emplo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as rester au soleil entre 10 heures et 16 heures. C’est pendant ces heures que le soleil est à son plus f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rayons UV des cabines de bronzage ou des lampes solaires provoquent des brûlures et un vieillisse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o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ls augmentent aussi le risque d’avoir un cancer de la p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7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rayons UVC (moins de 280 nm) sont absorbés par la couche d’ozone. Les rayons UVB (280 à 315 nm) sont très dangereux et atteignent la surface de la terre. La surexposition aux rayons UVB peut causer  des coups de soleil, le cancer, la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atarac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t l’affaiblissement du système immunitaire. Les rayons UVA (315 à 400 nm) sont les plus nombreux mais ils sont les moins dommage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228600" y="5867280"/>
            <a:ext cx="609480" cy="7621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0800" y="6540"/>
                </a:moveTo>
                <a:lnTo>
                  <a:pt x="13376" y="9151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2"/>
                </a:lnTo>
                <a:lnTo>
                  <a:pt x="5491" y="20692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6">
                <a:moveTo>
                  <a:pt x="13376" y="9151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6">
                <a:moveTo>
                  <a:pt x="9877" y="17002"/>
                </a:moveTo>
                <a:lnTo>
                  <a:pt x="11723" y="17002"/>
                </a:lnTo>
                <a:lnTo>
                  <a:pt x="11723" y="20692"/>
                </a:lnTo>
                <a:lnTo>
                  <a:pt x="16109" y="20692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2"/>
                </a:lnTo>
                <a:lnTo>
                  <a:pt x="9877" y="2069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762120"/>
            <a:ext cx="6591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ur en savoir un peu plu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8000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7:33:50Z</dcterms:created>
  <dc:creator>CSBE</dc:creator>
  <dc:description/>
  <dc:language>en-US</dc:language>
  <cp:lastModifiedBy>aben</cp:lastModifiedBy>
  <dcterms:modified xsi:type="dcterms:W3CDTF">2002-05-31T01:39:31Z</dcterms:modified>
  <cp:revision>42</cp:revision>
  <dc:subject/>
  <dc:title>Présentation PowerPoint</dc:title>
</cp:coreProperties>
</file>